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491-00C4-4AAE-BA34-B6E4596B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426-8E36-42D0-A224-8306F028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44B2-CC2C-4ACF-BAC1-FB8D72B6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04B-D75D-4F15-9CBD-A9EE6701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ECB-067E-4010-9F0B-5DBEF6CE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97B-7497-4EE6-9B5A-55706825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8D45-5780-4AE7-86E3-80E82E4D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3B9-BF1F-4F1A-A6D0-73DB9148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A189-475F-4D1A-B6EC-C5B9C9FF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140-AEFC-4EA2-A4F3-8AA9C575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35C-3AD4-41F1-A01F-31C2AE3B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C33-35FA-4338-9E99-DF4E7198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FEB8-C492-4B10-A433-91E0949D8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00"/>
                </a:solidFill>
                <a:latin typeface="Impact"/>
              </a:rPr>
              <a:t>I Like Where I A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14440" y="327672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4*Week 4*Day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MCBD07193_0000[1]"/>
          <p:cNvPicPr/>
          <p:nvPr/>
        </p:nvPicPr>
        <p:blipFill>
          <a:blip r:embed="rId1"/>
          <a:stretch/>
        </p:blipFill>
        <p:spPr>
          <a:xfrm>
            <a:off x="228600" y="2743200"/>
            <a:ext cx="328140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MCBD07193_0000[1]"/>
          <p:cNvPicPr/>
          <p:nvPr/>
        </p:nvPicPr>
        <p:blipFill>
          <a:blip r:embed="rId1"/>
          <a:stretch/>
        </p:blipFill>
        <p:spPr>
          <a:xfrm>
            <a:off x="380880" y="3962520"/>
            <a:ext cx="2235240" cy="2604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2819520" y="304920"/>
            <a:ext cx="56386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00"/>
                </a:solidFill>
                <a:latin typeface="Impact"/>
              </a:rPr>
              <a:t>I got up early so I could enjoy a full game of football.</a:t>
            </a: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MCBD07193_0000[1]"/>
          <p:cNvPicPr/>
          <p:nvPr/>
        </p:nvPicPr>
        <p:blipFill>
          <a:blip r:embed="rId1"/>
          <a:stretch/>
        </p:blipFill>
        <p:spPr>
          <a:xfrm>
            <a:off x="380880" y="3962520"/>
            <a:ext cx="2235240" cy="2604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2819520" y="304920"/>
            <a:ext cx="56386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743200" y="1066680"/>
            <a:ext cx="6019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00"/>
                </a:solidFill>
                <a:latin typeface="Impact"/>
              </a:rPr>
              <a:t>I need to warm a cup of milk and boil the pudding.</a:t>
            </a: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MCBD07193_0000[1]"/>
          <p:cNvPicPr/>
          <p:nvPr/>
        </p:nvPicPr>
        <p:blipFill>
          <a:blip r:embed="rId1"/>
          <a:stretch/>
        </p:blipFill>
        <p:spPr>
          <a:xfrm>
            <a:off x="380880" y="3962520"/>
            <a:ext cx="2235240" cy="2604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2819520" y="304920"/>
            <a:ext cx="56386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3200" y="304920"/>
            <a:ext cx="59436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00"/>
                </a:solidFill>
                <a:latin typeface="Impact"/>
              </a:rPr>
              <a:t>Look, one of my eyes has a cut underneath it.</a:t>
            </a: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CBD07193_0000[1]"/>
          <p:cNvPicPr/>
          <p:nvPr/>
        </p:nvPicPr>
        <p:blipFill>
          <a:blip r:embed="rId1"/>
          <a:stretch/>
        </p:blipFill>
        <p:spPr>
          <a:xfrm>
            <a:off x="380880" y="3962520"/>
            <a:ext cx="2235240" cy="2604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2819520" y="304920"/>
            <a:ext cx="56386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819520" y="914400"/>
            <a:ext cx="601956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Impact"/>
              </a:rPr>
              <a:t>You must put the pail of water and the pile of wood near the soil for the garden.</a:t>
            </a:r>
            <a:endParaRPr b="0" lang="en-US" sz="6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MCBD07193_0000[1]"/>
          <p:cNvPicPr/>
          <p:nvPr/>
        </p:nvPicPr>
        <p:blipFill>
          <a:blip r:embed="rId1"/>
          <a:stretch/>
        </p:blipFill>
        <p:spPr>
          <a:xfrm>
            <a:off x="380880" y="3962520"/>
            <a:ext cx="2235240" cy="2604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895480" y="685800"/>
            <a:ext cx="5639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Impact"/>
              </a:rPr>
              <a:t>“</a:t>
            </a:r>
            <a:r>
              <a:rPr b="0" lang="en-US" sz="7200" spc="-1" strike="noStrike">
                <a:solidFill>
                  <a:srgbClr val="006600"/>
                </a:solidFill>
                <a:latin typeface="Impact"/>
              </a:rPr>
              <a:t>That cookie is full of sugar,” said Uncle Gus in a playful voice.</a:t>
            </a:r>
            <a:endParaRPr b="0" lang="en-US" sz="7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MCBD07193_0000[1]"/>
          <p:cNvPicPr/>
          <p:nvPr/>
        </p:nvPicPr>
        <p:blipFill>
          <a:blip r:embed="rId1"/>
          <a:stretch/>
        </p:blipFill>
        <p:spPr>
          <a:xfrm>
            <a:off x="380880" y="3962520"/>
            <a:ext cx="2235240" cy="2604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971800" y="990720"/>
            <a:ext cx="563868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Impact"/>
              </a:rPr>
              <a:t>Last summer some boys and I took care of a bulldog and other animals.</a:t>
            </a:r>
            <a:endParaRPr b="0" lang="en-US" sz="6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8120" y="457200"/>
            <a:ext cx="108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21:14:02Z</dcterms:created>
  <dc:creator>llefever</dc:creator>
  <dc:description/>
  <dc:language>en-US</dc:language>
  <cp:lastModifiedBy>teacher</cp:lastModifiedBy>
  <dcterms:modified xsi:type="dcterms:W3CDTF">2011-01-20T16:00:34Z</dcterms:modified>
  <cp:revision>3</cp:revision>
  <dc:subject/>
  <dc:title>I Like Where I 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169833</vt:r8>
  </property>
  <property fmtid="{D5CDD505-2E9C-101B-9397-08002B2CF9AE}" pid="3" name="_AuthorEmail">
    <vt:lpwstr>LLeFever@bcbe.org</vt:lpwstr>
  </property>
  <property fmtid="{D5CDD505-2E9C-101B-9397-08002B2CF9AE}" pid="4" name="_AuthorEmailDisplayName">
    <vt:lpwstr>Lara M. LeFever</vt:lpwstr>
  </property>
  <property fmtid="{D5CDD505-2E9C-101B-9397-08002B2CF9AE}" pid="5" name="_EmailSubject">
    <vt:lpwstr>2nd grade Scott Foresman</vt:lpwstr>
  </property>
</Properties>
</file>